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106A-3D87-401D-95F7-61F032D8608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BD45-5F6D-47B1-BD50-F1B35CD51D2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CA8D-827E-4677-9F22-1F03EE467DC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9A3-3348-4731-BBAB-AF4F4A97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C1E-6536-4CA5-9FED-FCF7E5AC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25A-7DA7-497C-B5D4-94238ADB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C335-778D-4209-978A-EFC10754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91ADD-CA84-4126-8DF5-800EEA78EB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6E1E2-149C-4D87-AFEB-F0B7A86D21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0680E-5EE9-4A77-93D0-611AC14CBD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D20DA-A0C2-453E-BE4C-B32B854DDD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20FC5-37CD-4879-80DA-447C79CCF0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AC466-4E7C-45CE-A0A2-CAF7808E7F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64804-B740-4CB6-94B1-F824DCB6DD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ECE3-FA8B-493D-AC52-C1BE0DAB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10925-F8BD-4C0B-A844-40BA40810C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8F055-D871-46A7-B907-F1A5F09F37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A18DF-168C-48E4-9572-C9D6A1EF77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80DAE-1204-491B-8E20-8C6677BAC3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27027-2538-4C95-936F-FB6FAC172E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3FFA-822D-4902-BA5C-D0B565C5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62A-E2FA-493A-9A66-0FB0DEEA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146-0CC3-46ED-B464-24B7E265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F8F-D248-4802-B1D7-DFE2B746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5EB-9BA2-4ADA-A9D3-38CDE13E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A99-CA54-4202-AE65-CF4AB3D9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5D72-2CFA-4291-8B5E-895F5BDC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401D-3FD7-498D-A042-7920F497E51B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205D-1DC5-4384-97AF-ED0D387E0EB9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7DED-534F-450B-98AC-7C54FF2AD3D0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125000"/>
            <a:ext cx="784692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uso del manual de prevención del lavado de activos y financiación</a:t>
            </a:r>
            <a:br>
              <a:rPr sz="5400"/>
            </a:b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l terrorismo - Un enfoque práctic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44D2-5F98-4F13-8E92-55FED96EF4B9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85480" y="35712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- Origen de capitales – partes involucrad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vienen fondos de paraísos fisc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- Referencia de tercer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nálisis de referecias de clientes y proveedores de alto ries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- Análisis de EEC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nálisis de índices financier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nálisis de consistencia entre los EECC y datos de DDJJ fisc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CF34-34C4-4BEF-AECE-2EE4A8FE3089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Muchas gracias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1440-C45C-4D82-B6B0-B801E36F38CF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5 Diagrama" descr=""/>
          <p:cNvPicPr/>
          <p:nvPr/>
        </p:nvPicPr>
        <p:blipFill>
          <a:blip r:embed="rId1"/>
          <a:stretch/>
        </p:blipFill>
        <p:spPr>
          <a:xfrm>
            <a:off x="341280" y="2170080"/>
            <a:ext cx="8388360" cy="4694400"/>
          </a:xfrm>
          <a:prstGeom prst="rect">
            <a:avLst/>
          </a:prstGeom>
          <a:ln w="0">
            <a:noFill/>
          </a:ln>
        </p:spPr>
      </p:pic>
      <p:sp>
        <p:nvSpPr>
          <p:cNvPr id="91" name="4 CuadroTexto"/>
          <p:cNvSpPr/>
          <p:nvPr/>
        </p:nvSpPr>
        <p:spPr>
          <a:xfrm>
            <a:off x="1535040" y="476280"/>
            <a:ext cx="607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pìtulo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ecanismos y procedimientos para la prevensión de LA/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DBDC-5395-4040-BAEA-5FDBE826C262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9 Grupo"/>
          <p:cNvGrpSpPr/>
          <p:nvPr/>
        </p:nvGrpSpPr>
        <p:grpSpPr>
          <a:xfrm>
            <a:off x="571680" y="4143240"/>
            <a:ext cx="8245440" cy="1729080"/>
            <a:chOff x="571680" y="4143240"/>
            <a:chExt cx="8245440" cy="1729080"/>
          </a:xfrm>
        </p:grpSpPr>
        <p:sp>
          <p:nvSpPr>
            <p:cNvPr id="94" name="10 Rectángulo"/>
            <p:cNvSpPr/>
            <p:nvPr/>
          </p:nvSpPr>
          <p:spPr>
            <a:xfrm>
              <a:off x="571680" y="4143240"/>
              <a:ext cx="8245440" cy="17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11 Rectángulo"/>
            <p:cNvSpPr/>
            <p:nvPr/>
          </p:nvSpPr>
          <p:spPr>
            <a:xfrm>
              <a:off x="571680" y="4143240"/>
              <a:ext cx="8245440" cy="17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1720" rIns="128160" tIns="23040" bIns="2304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12 Grupo"/>
          <p:cNvGrpSpPr/>
          <p:nvPr/>
        </p:nvGrpSpPr>
        <p:grpSpPr>
          <a:xfrm>
            <a:off x="428760" y="4000680"/>
            <a:ext cx="8265960" cy="291960"/>
            <a:chOff x="428760" y="4000680"/>
            <a:chExt cx="8265960" cy="291960"/>
          </a:xfrm>
        </p:grpSpPr>
        <p:sp>
          <p:nvSpPr>
            <p:cNvPr id="97" name="13 Rectángulo"/>
            <p:cNvSpPr/>
            <p:nvPr/>
          </p:nvSpPr>
          <p:spPr>
            <a:xfrm>
              <a:off x="428760" y="4000680"/>
              <a:ext cx="826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14 Rectángulo"/>
            <p:cNvSpPr/>
            <p:nvPr/>
          </p:nvSpPr>
          <p:spPr>
            <a:xfrm>
              <a:off x="428760" y="4000680"/>
              <a:ext cx="826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1720" rIns="128160" tIns="23040" bIns="2304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15 Rectángulo"/>
          <p:cNvSpPr/>
          <p:nvPr/>
        </p:nvSpPr>
        <p:spPr>
          <a:xfrm>
            <a:off x="571680" y="378612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a.1) Profesional en Ciencias Económicas como sujeto obligado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a.2) Control en sujetos obligados a inform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a.3) Control de sujetos no obligados a informar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1395-93B1-4C83-843A-736AF6C86D24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2 Grupo" descr=""/>
          <p:cNvPicPr/>
          <p:nvPr/>
        </p:nvPicPr>
        <p:blipFill>
          <a:blip r:embed="rId1"/>
          <a:stretch/>
        </p:blipFill>
        <p:spPr>
          <a:xfrm>
            <a:off x="334800" y="871560"/>
            <a:ext cx="8358480" cy="1768320"/>
          </a:xfrm>
          <a:prstGeom prst="rect">
            <a:avLst/>
          </a:prstGeom>
          <a:ln w="0">
            <a:noFill/>
          </a:ln>
        </p:spPr>
      </p:pic>
      <p:grpSp>
        <p:nvGrpSpPr>
          <p:cNvPr id="102" name="3 Grupo"/>
          <p:cNvGrpSpPr/>
          <p:nvPr/>
        </p:nvGrpSpPr>
        <p:grpSpPr>
          <a:xfrm>
            <a:off x="449280" y="2637000"/>
            <a:ext cx="7669080" cy="2304720"/>
            <a:chOff x="449280" y="2637000"/>
            <a:chExt cx="7669080" cy="2304720"/>
          </a:xfrm>
        </p:grpSpPr>
        <p:sp>
          <p:nvSpPr>
            <p:cNvPr id="103" name="4 Rectángulo"/>
            <p:cNvSpPr/>
            <p:nvPr/>
          </p:nvSpPr>
          <p:spPr>
            <a:xfrm>
              <a:off x="449280" y="3132000"/>
              <a:ext cx="7651800" cy="13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 Rectángulo"/>
            <p:cNvSpPr/>
            <p:nvPr/>
          </p:nvSpPr>
          <p:spPr>
            <a:xfrm>
              <a:off x="466560" y="2637000"/>
              <a:ext cx="7651800" cy="23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1720" rIns="28440" tIns="5040" bIns="5040" anchor="t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99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77840"/>
                  <a:tab algn="l" pos="355680"/>
                  <a:tab algn="l" pos="533520"/>
                  <a:tab algn="l" pos="711360"/>
                  <a:tab algn="l" pos="888840"/>
                  <a:tab algn="l" pos="1066680"/>
                  <a:tab algn="l" pos="1244520"/>
                  <a:tab algn="l" pos="1422360"/>
                  <a:tab algn="l" pos="1600200"/>
                  <a:tab algn="l" pos="1778040"/>
                  <a:tab algn="l" pos="1955880"/>
                  <a:tab algn="l" pos="2133720"/>
                  <a:tab algn="l" pos="2311560"/>
                  <a:tab algn="l" pos="2489040"/>
                  <a:tab algn="l" pos="2666880"/>
                  <a:tab algn="l" pos="2844720"/>
                  <a:tab algn="l" pos="3022560"/>
                  <a:tab algn="l" pos="3200400"/>
                  <a:tab algn="l" pos="3378240"/>
                  <a:tab algn="l" pos="355608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Calibri"/>
                </a:rPr>
                <a:t>b.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99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77840"/>
                  <a:tab algn="l" pos="355680"/>
                  <a:tab algn="l" pos="533520"/>
                  <a:tab algn="l" pos="711360"/>
                  <a:tab algn="l" pos="888840"/>
                  <a:tab algn="l" pos="1066680"/>
                  <a:tab algn="l" pos="1244520"/>
                  <a:tab algn="l" pos="1422360"/>
                  <a:tab algn="l" pos="1600200"/>
                  <a:tab algn="l" pos="1778040"/>
                  <a:tab algn="l" pos="1955880"/>
                  <a:tab algn="l" pos="2133720"/>
                  <a:tab algn="l" pos="2311560"/>
                  <a:tab algn="l" pos="2489040"/>
                  <a:tab algn="l" pos="2666880"/>
                  <a:tab algn="l" pos="2844720"/>
                  <a:tab algn="l" pos="3022560"/>
                  <a:tab algn="l" pos="3200400"/>
                  <a:tab algn="l" pos="3378240"/>
                  <a:tab algn="l" pos="355608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451"/>
                </a:spcAft>
                <a:tabLst>
                  <a:tab algn="l" pos="0"/>
                  <a:tab algn="l" pos="177840"/>
                  <a:tab algn="l" pos="355680"/>
                  <a:tab algn="l" pos="533520"/>
                  <a:tab algn="l" pos="711360"/>
                  <a:tab algn="l" pos="888840"/>
                  <a:tab algn="l" pos="1066680"/>
                  <a:tab algn="l" pos="1244520"/>
                  <a:tab algn="l" pos="1422360"/>
                  <a:tab algn="l" pos="1600200"/>
                  <a:tab algn="l" pos="1778040"/>
                  <a:tab algn="l" pos="1955880"/>
                  <a:tab algn="l" pos="2133720"/>
                  <a:tab algn="l" pos="2311560"/>
                  <a:tab algn="l" pos="2489040"/>
                  <a:tab algn="l" pos="2666880"/>
                  <a:tab algn="l" pos="2844720"/>
                  <a:tab algn="l" pos="3022560"/>
                  <a:tab algn="l" pos="3200400"/>
                  <a:tab algn="l" pos="3378240"/>
                  <a:tab algn="l" pos="355608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i="1" lang="es-ES" sz="1800" spc="-1" strike="noStrike">
                  <a:solidFill>
                    <a:srgbClr val="000000"/>
                  </a:solidFill>
                  <a:latin typeface="Calibri"/>
                </a:rPr>
                <a:t>b.1) Información sobre cli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451"/>
                </a:spcAft>
                <a:tabLst>
                  <a:tab algn="l" pos="0"/>
                  <a:tab algn="l" pos="177840"/>
                  <a:tab algn="l" pos="355680"/>
                  <a:tab algn="l" pos="533520"/>
                  <a:tab algn="l" pos="711360"/>
                  <a:tab algn="l" pos="888840"/>
                  <a:tab algn="l" pos="1066680"/>
                  <a:tab algn="l" pos="1244520"/>
                  <a:tab algn="l" pos="1422360"/>
                  <a:tab algn="l" pos="1600200"/>
                  <a:tab algn="l" pos="1778040"/>
                  <a:tab algn="l" pos="1955880"/>
                  <a:tab algn="l" pos="2133720"/>
                  <a:tab algn="l" pos="2311560"/>
                  <a:tab algn="l" pos="2489040"/>
                  <a:tab algn="l" pos="2666880"/>
                  <a:tab algn="l" pos="2844720"/>
                  <a:tab algn="l" pos="3022560"/>
                  <a:tab algn="l" pos="3200400"/>
                  <a:tab algn="l" pos="3378240"/>
                  <a:tab algn="l" pos="3556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480" indent="-57240">
                <a:lnSpc>
                  <a:spcPct val="90000"/>
                </a:lnSpc>
                <a:spcAft>
                  <a:spcPts val="451"/>
                </a:spcAft>
                <a:tabLst>
                  <a:tab algn="l" pos="0"/>
                  <a:tab algn="l" pos="177840"/>
                  <a:tab algn="l" pos="355680"/>
                  <a:tab algn="l" pos="533520"/>
                  <a:tab algn="l" pos="711360"/>
                  <a:tab algn="l" pos="888840"/>
                  <a:tab algn="l" pos="1066680"/>
                  <a:tab algn="l" pos="1244520"/>
                  <a:tab algn="l" pos="1422360"/>
                  <a:tab algn="l" pos="1600200"/>
                  <a:tab algn="l" pos="1778040"/>
                  <a:tab algn="l" pos="1955880"/>
                  <a:tab algn="l" pos="2133720"/>
                  <a:tab algn="l" pos="2311560"/>
                  <a:tab algn="l" pos="2489040"/>
                  <a:tab algn="l" pos="2666880"/>
                  <a:tab algn="l" pos="2844720"/>
                  <a:tab algn="l" pos="3022560"/>
                  <a:tab algn="l" pos="3200400"/>
                  <a:tab algn="l" pos="3378240"/>
                  <a:tab algn="l" pos="355608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alibri"/>
                </a:rPr>
                <a:t>b.1.1) Conocimiento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480" indent="-57240">
                <a:lnSpc>
                  <a:spcPct val="90000"/>
                </a:lnSpc>
                <a:spcAft>
                  <a:spcPts val="451"/>
                </a:spcAft>
                <a:tabLst>
                  <a:tab algn="l" pos="0"/>
                  <a:tab algn="l" pos="177840"/>
                  <a:tab algn="l" pos="355680"/>
                  <a:tab algn="l" pos="533520"/>
                  <a:tab algn="l" pos="711360"/>
                  <a:tab algn="l" pos="888840"/>
                  <a:tab algn="l" pos="1066680"/>
                  <a:tab algn="l" pos="1244520"/>
                  <a:tab algn="l" pos="1422360"/>
                  <a:tab algn="l" pos="1600200"/>
                  <a:tab algn="l" pos="1778040"/>
                  <a:tab algn="l" pos="1955880"/>
                  <a:tab algn="l" pos="2133720"/>
                  <a:tab algn="l" pos="2311560"/>
                  <a:tab algn="l" pos="2489040"/>
                  <a:tab algn="l" pos="2666880"/>
                  <a:tab algn="l" pos="2844720"/>
                  <a:tab algn="l" pos="3022560"/>
                  <a:tab algn="l" pos="3200400"/>
                  <a:tab algn="l" pos="3378240"/>
                  <a:tab algn="l" pos="355608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alibri"/>
                </a:rPr>
                <a:t>b.1.2) Aceptación o rechazo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480" indent="-57240">
                <a:lnSpc>
                  <a:spcPct val="90000"/>
                </a:lnSpc>
                <a:spcAft>
                  <a:spcPts val="451"/>
                </a:spcAft>
                <a:tabLst>
                  <a:tab algn="l" pos="0"/>
                  <a:tab algn="l" pos="177840"/>
                  <a:tab algn="l" pos="355680"/>
                  <a:tab algn="l" pos="533520"/>
                  <a:tab algn="l" pos="711360"/>
                  <a:tab algn="l" pos="888840"/>
                  <a:tab algn="l" pos="1066680"/>
                  <a:tab algn="l" pos="1244520"/>
                  <a:tab algn="l" pos="1422360"/>
                  <a:tab algn="l" pos="1600200"/>
                  <a:tab algn="l" pos="1778040"/>
                  <a:tab algn="l" pos="1955880"/>
                  <a:tab algn="l" pos="2133720"/>
                  <a:tab algn="l" pos="2311560"/>
                  <a:tab algn="l" pos="2489040"/>
                  <a:tab algn="l" pos="2666880"/>
                  <a:tab algn="l" pos="2844720"/>
                  <a:tab algn="l" pos="3022560"/>
                  <a:tab algn="l" pos="3200400"/>
                  <a:tab algn="l" pos="3378240"/>
                  <a:tab algn="l" pos="355608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alibri"/>
                </a:rPr>
                <a:t>b.1.3) Determinación del perfi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480" indent="-57240">
                <a:lnSpc>
                  <a:spcPct val="90000"/>
                </a:lnSpc>
                <a:spcAft>
                  <a:spcPts val="451"/>
                </a:spcAft>
                <a:tabLst>
                  <a:tab algn="l" pos="0"/>
                  <a:tab algn="l" pos="177840"/>
                  <a:tab algn="l" pos="355680"/>
                  <a:tab algn="l" pos="533520"/>
                  <a:tab algn="l" pos="711360"/>
                  <a:tab algn="l" pos="888840"/>
                  <a:tab algn="l" pos="1066680"/>
                  <a:tab algn="l" pos="1244520"/>
                  <a:tab algn="l" pos="1422360"/>
                  <a:tab algn="l" pos="1600200"/>
                  <a:tab algn="l" pos="1778040"/>
                  <a:tab algn="l" pos="1955880"/>
                  <a:tab algn="l" pos="2133720"/>
                  <a:tab algn="l" pos="2311560"/>
                  <a:tab algn="l" pos="2489040"/>
                  <a:tab algn="l" pos="2666880"/>
                  <a:tab algn="l" pos="2844720"/>
                  <a:tab algn="l" pos="3022560"/>
                  <a:tab algn="l" pos="3200400"/>
                  <a:tab algn="l" pos="3378240"/>
                  <a:tab algn="l" pos="3556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451"/>
                </a:spcAft>
                <a:tabLst>
                  <a:tab algn="l" pos="0"/>
                  <a:tab algn="l" pos="177840"/>
                  <a:tab algn="l" pos="355680"/>
                  <a:tab algn="l" pos="533520"/>
                  <a:tab algn="l" pos="711360"/>
                  <a:tab algn="l" pos="888840"/>
                  <a:tab algn="l" pos="1066680"/>
                  <a:tab algn="l" pos="1244520"/>
                  <a:tab algn="l" pos="1422360"/>
                  <a:tab algn="l" pos="1600200"/>
                  <a:tab algn="l" pos="1778040"/>
                  <a:tab algn="l" pos="1955880"/>
                  <a:tab algn="l" pos="2133720"/>
                  <a:tab algn="l" pos="2311560"/>
                  <a:tab algn="l" pos="2489040"/>
                  <a:tab algn="l" pos="2666880"/>
                  <a:tab algn="l" pos="2844720"/>
                  <a:tab algn="l" pos="3022560"/>
                  <a:tab algn="l" pos="3200400"/>
                  <a:tab algn="l" pos="3378240"/>
                  <a:tab algn="l" pos="355608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i="1" lang="es-ES" sz="1800" spc="-1" strike="noStrike">
                  <a:solidFill>
                    <a:srgbClr val="000000"/>
                  </a:solidFill>
                  <a:latin typeface="Calibri"/>
                </a:rPr>
                <a:t>b.2) Monitor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1258920" y="1733400"/>
          <a:ext cx="6091200" cy="33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33400"/>
                    <a:ext cx="6091200" cy="33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2 CuadroTexto"/>
          <p:cNvSpPr/>
          <p:nvPr/>
        </p:nvSpPr>
        <p:spPr>
          <a:xfrm>
            <a:off x="928800" y="64296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dentificación de clientes – Personas Juríd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B781-7CBB-4EA2-9109-CDD1FDE84F30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2"/>
          <p:cNvGraphicFramePr/>
          <p:nvPr/>
        </p:nvGraphicFramePr>
        <p:xfrm>
          <a:off x="1258920" y="1555920"/>
          <a:ext cx="6804000" cy="47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555920"/>
                    <a:ext cx="6804000" cy="47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2 CuadroTexto"/>
          <p:cNvSpPr/>
          <p:nvPr/>
        </p:nvSpPr>
        <p:spPr>
          <a:xfrm>
            <a:off x="2643120" y="64296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erfil del client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atriz de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B4DD-1DCF-449D-99AF-83F6EBBF9115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- Historia del cli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ños en el merc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erfil públ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maño de la empresa (evolución de su envergadur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bicación casa matriz, sucursal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olución en la clase de productos y/o ss. Qué productos ofrece y qué ofrecerá en un futu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D6B4-395D-45B2-A57E-74E9B219E4BF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B- Cambio de gerencias o dueñ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ransferencias accionarias – periodic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ubo Directores o beneficiarios que HOY son PE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ntigüedad de geren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48DF-FA69-4846-B79F-700D43E0CA2B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- Tipo, volumen, frecuencia de transac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ransacciones esperad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olúmenes de activ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cionales vs. Continu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tratos con diferentes entida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nales de distribu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B63D-62C0-4128-993E-7986F4B9B45F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- Actividad del cli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racterística de la actividad con riesgo. inherente de LA/F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incipales clien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incipales proveed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tra entidades con las que opera, bancos financiera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manejo de efectivo es habitual para la activ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DF80-CF5D-4D3B-83EB-79D3F9F648B6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32:53Z</dcterms:created>
  <dc:creator>RBUENO</dc:creator>
  <dc:description/>
  <dc:language>en-US</dc:language>
  <cp:lastModifiedBy>rbarrionuevo</cp:lastModifiedBy>
  <dcterms:modified xsi:type="dcterms:W3CDTF">2012-05-22T21:13:14Z</dcterms:modified>
  <cp:revision>158</cp:revision>
  <dc:subject/>
  <dc:title>Diapositiva 1</dc:title>
</cp:coreProperties>
</file>